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E44-3916-4640-A769-196F7E39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177-6211-440D-9257-AC30AB5F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C43-BDBA-4D22-BF73-9BA2372B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AD8-7285-414C-A524-35E6EE41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D3E2-4B1A-4515-B9A1-E142B80D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484F-A4B9-469D-A7EB-0CAB085D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BE1F-7992-4232-816C-F4CE6282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72FF-1B13-4C12-97ED-BF68A34C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80DD-7D8A-4D01-9E81-DFD9241F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E9DB-65EE-4AE9-B903-596C52E3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A69C-55D8-42F5-B33B-D4480F9A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C6A-1242-4525-92F7-E23B0BA1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868F-0EAF-424A-A7D2-53072C5E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3941-93BB-4A88-8F87-C66DB418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7E69-E95A-4768-85D0-9EA924B4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37C1-8187-4240-BD8D-A2D208D5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122F-6B02-4693-87B5-44A5BBE6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E73-2EDF-48CC-B6BE-2FA8A7BF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4BD-9A1F-4678-B705-B51A21E3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FF7-1145-4CFB-8077-DFE3DE2F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07D3-5972-4DF9-B9AB-55A0AA6A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3FE-39BA-4776-8AC4-627BCC69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782-D3CF-40F3-B3C9-26B1EDCF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0874-B70A-4336-9911-19A8A71F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5849-C096-4266-B190-90F45B42E1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EE90-0388-4006-8BA0-03A00A0C3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ers/iteach/Desktop/339%20roll%20out%20times%20and%20locations.doc" TargetMode="External"/><Relationship Id="rId3" Type="http://schemas.openxmlformats.org/officeDocument/2006/relationships/hyperlink" Target="file:///Users/iteach/Desktop/survey%20of%20PD%20topics.doc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ptop Rollout May 20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Excitement Builds.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IL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skills impr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itement/ 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llent for 6th graders to get lapt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ing our 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ingual kids - all kids - are being inclu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eachers more organ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 lesson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ing video/ instant visuals - Googl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s for lessons/ research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v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iated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7772400" cy="6629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 off task - on alternate web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 of th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get them home saf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at different levels with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 at different levels with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eling with a cart / logistics of teaching in other 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ing laptops char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 to download new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e-wide procedures/ systems/ 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technology fails mid-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ing / filtering web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s of communication stay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expectations as teach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do we go to for help? When do we go to th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ill trainings beg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timeli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Schedule of events next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ping” classes with homeroom tea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&amp; creating a manual for teachers - Satur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around those binders - after school, 4 days next week: Teacher Readiness Check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Other training possibiliti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iL trai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ggestions Concerns to be address at tomorrow’s ses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on’t forget time shee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03:35:50Z</dcterms:created>
  <dc:creator>NYCDOE</dc:creator>
  <dc:description/>
  <dc:language>en-US</dc:language>
  <cp:lastModifiedBy>OIT</cp:lastModifiedBy>
  <dcterms:modified xsi:type="dcterms:W3CDTF">2006-05-10T14:14:28Z</dcterms:modified>
  <cp:revision>8</cp:revision>
  <dc:subject/>
  <dc:title>Laptop Rollout May 2006</dc:title>
</cp:coreProperties>
</file>